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7F5-2129-4B2E-88BC-F747B7A1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69C-943E-4985-B263-94CD95DD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C29-10A3-4B7B-AB61-D10FBD882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A1DE-DBC3-460B-A086-1C9A4222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7E0C-734E-441C-99CB-B5A388B0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7FD2-FF92-4E36-9B96-EDFF513D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D36E-27EC-4A7A-8FC3-16F8CD87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CFE2-F102-443D-911B-20A6FF5A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E205-7919-47D8-BA31-6A160512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488EB-42CD-4288-B06F-DF259536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9539-D77F-4752-BD0B-20129BC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039-980E-4170-B918-E60D0F4B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27B8-439E-43B8-B5B0-0A59B2E9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E0FC-E20B-4E4A-9486-83E9154F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DDF6-76D6-4D8C-8490-C4AB0452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02E1-AD04-42B7-9134-452371DE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A67E-1378-43CF-8787-B6138F235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603-8287-420F-A16D-5AFEB8B9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305-B7F5-44A4-A2B6-AD2F0433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32E-2729-4924-AEF6-884BE2CB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7DC-56D9-40F2-97F2-002790D1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7A2-7303-4269-94C5-84CC97C5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A3B-7592-4057-8374-8F4FFA6C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62E7-0B1D-4ECE-9AFD-38130EB2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18BA-896F-4AE4-9E8C-18656126F66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8371-F437-4B76-B9FE-4630AD2798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773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55640" y="2492280"/>
            <a:ext cx="7632720" cy="107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ликие математики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22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ифагор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 580 – 500 до н. э. 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63640" y="260280"/>
            <a:ext cx="5616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22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Евклид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 365 – 300 до н. э. 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835280" y="260280"/>
            <a:ext cx="554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не Декарт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 1596 – 1650 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47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522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еонард Эйлер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 1707 – 1783 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540072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иколай Иванович Лобачевский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 ( 1792 – 1850 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40000" y="260280"/>
            <a:ext cx="4248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офья Васильевна Ковалевская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 1850 – 1891 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124000" y="476280"/>
            <a:ext cx="47516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ст</cp:lastModifiedBy>
  <dcterms:modified xsi:type="dcterms:W3CDTF">2012-01-19T11:03:03Z</dcterms:modified>
  <cp:revision>1</cp:revision>
  <dc:subject/>
  <dc:title>PowerPoint Presentation</dc:title>
</cp:coreProperties>
</file>